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8AA-B16F-4B2A-8C7D-C85A64CE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D40-3FAB-4434-9970-53C06B2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C8B-891A-403B-9440-C21746BC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E33-C071-4ADC-8C89-7265470B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4881-FAD6-464D-AB9C-F5F28A4A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0984-7AC5-4CBA-BCA8-C6937C7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ABC4-AEF3-435E-8544-D4780E9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CF91-3952-4F49-87CD-6DE9032B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00C-E692-4E6D-8283-056861FF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DE0D-6E1C-474A-998B-B341B65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5486-00F0-4EC3-BF0F-DC17871E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E14-689F-414B-9925-15867DA6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6BD2-8431-4346-A7C7-C8ECA89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0014-CF00-4E30-A886-7F3F3AE0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F5A-70FB-4BBA-B419-FCA47B83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10F7-D892-4B95-A24C-FC51DD83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286C-E0F5-4676-B109-40B2EDD2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E200-F711-4934-8BA4-35205D35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E6FB-47FC-458F-81E8-21D6732A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A169-D47D-4BF8-A7DA-EBA49061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3746-1313-4ECB-9270-B9EFDA8F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6D8A-981C-4BBC-B1F1-1E220401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DBD-8EE6-4C13-80E7-601C7B08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43A7-7F86-4755-A363-9B40E845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5845-A1C6-4695-870A-7AE1FE32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D25E3-5526-45CC-BA73-4C047A4E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C5087-70F7-449D-9D2B-9FF5A30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55EB-52D2-4079-9E48-B1E49EB8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B47A-6FFB-45A2-A643-9DDD2F3F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89E3-4FCE-481B-B35F-55624099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9C2A-2F80-4B30-B6F4-1B09F644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DAB8-3C00-41C0-9954-36C4A92C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3207-E622-4083-A39D-92951DB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AA2-8CAC-4067-B3FC-464CE5B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47AE-FFC3-4457-A2E2-BF9933D8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65A38-6E49-4A12-8D5C-FC87D20E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018A-0999-4B7A-9EE6-8FE95455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678B3-49C3-43BC-8FF9-DDEA2B3A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6B70-83D5-4A1C-B9D0-6B07B8EB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4332-FEE7-4831-99A4-BF27B16E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D1313-96FC-46D3-9DD7-15E65D0C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32A0-D8E0-4426-A3AA-DE570C57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373E-D11A-411C-9446-CA0C6F73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359C9-C1CF-4B73-8E6C-050B9B55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C43-7188-433A-8DC1-A785805F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A738-CB0B-48E8-B8A6-425500BD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D4DD6-C22E-495F-8D17-07F8EADC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37A22-FB1A-415B-8BBE-1422C86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6FEEF-6F6F-4C0F-8F29-D4998AB5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DFA30-7043-4CAB-BAE5-A012F8E2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C371-3768-4989-A358-FA8F1420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A2727-8CFA-4784-A95F-613E57D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8401-788F-4F4E-AE92-6830466F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AE79-7BA5-441D-925A-B97EF300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06D3-9907-43E1-9B6B-851271AD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6E5-3644-48E9-AFF0-8A52F727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C69A-D131-4576-B0E0-D148EC58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ED0-9E27-4437-A27E-8E71AFF8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39E-C24B-4450-B184-ECD34D45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06A-CFD5-4113-BCBE-C31C3C9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88CD-DF3A-41A4-86D6-8AC051BE8A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22B2-CD4E-47C1-A323-35178964F3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6846-C0F9-4FE9-B513-FDB76ABB85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4D5-E0F1-49D4-962C-1B6CEEE636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0E35-E6A8-4DAF-92DE-9872383FFF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accss.ncdpi.wikispaces.net/" TargetMode="External"/><Relationship Id="rId2" Type="http://schemas.openxmlformats.org/officeDocument/2006/relationships/hyperlink" Target="http://commoncoretasks.wikispaces.com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Perpetua"/>
              </a:rPr>
              <a:t>August 16, 201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anklin Gothic Book"/>
              </a:rPr>
              <a:t>K-2 Assessments</a:t>
            </a:r>
            <a:endParaRPr b="0" lang="en-US" sz="6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hen and NOW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48" name="Diagram 3" descr=""/>
          <p:cNvPicPr/>
          <p:nvPr/>
        </p:nvPicPr>
        <p:blipFill>
          <a:blip r:embed="rId1"/>
          <a:stretch/>
        </p:blipFill>
        <p:spPr>
          <a:xfrm>
            <a:off x="133200" y="1292400"/>
            <a:ext cx="8871120" cy="53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hen and NOW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50" name="Diagram 3" descr=""/>
          <p:cNvPicPr/>
          <p:nvPr/>
        </p:nvPicPr>
        <p:blipFill>
          <a:blip r:embed="rId1"/>
          <a:stretch/>
        </p:blipFill>
        <p:spPr>
          <a:xfrm>
            <a:off x="133200" y="1292400"/>
            <a:ext cx="8871120" cy="53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Assessment Item Bank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rovided on DPI Wiki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Assessment Booklet (directions, tasks, blackline masters) will be provid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imeline by quarte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0880" y="15192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erpetua"/>
              </a:rPr>
              <a:t>Assessment Wiki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PI Wiki: 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Perpetua"/>
                <a:hlinkClick r:id="rId1"/>
              </a:rPr>
              <a:t>http://maccss.ncdpi.wikispaces.net/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K-2 Assessment Wiki: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Perpetua"/>
                <a:hlinkClick r:id="rId2"/>
              </a:rPr>
              <a:t>http://commoncoretasks.wikispaces.com/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rcRect l="0" t="5966" r="0" b="0"/>
          <a:stretch/>
        </p:blipFill>
        <p:spPr>
          <a:xfrm>
            <a:off x="838080" y="762120"/>
            <a:ext cx="7620120" cy="4647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3619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1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Franklin Gothic Book"/>
              </a:rPr>
              <a:t>Grade Level Assessment Tasks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6108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1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Assessment Task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575f6d"/>
                </a:solidFill>
                <a:latin typeface="Franklin Gothic Book"/>
              </a:rPr>
              <a:t>Blackline Masters </a:t>
            </a:r>
            <a:br>
              <a:rPr sz="4900"/>
            </a:br>
            <a:r>
              <a:rPr b="1" lang="en-US" sz="4900" spc="-1" strike="noStrike">
                <a:solidFill>
                  <a:srgbClr val="575f6d"/>
                </a:solidFill>
                <a:latin typeface="Franklin Gothic Book"/>
              </a:rPr>
              <a:t>&amp; Student Forms</a:t>
            </a:r>
            <a:endParaRPr b="0" lang="en-US" sz="49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rcRect l="4236" t="8131" r="7623" b="3645"/>
          <a:stretch/>
        </p:blipFill>
        <p:spPr>
          <a:xfrm>
            <a:off x="990720" y="152280"/>
            <a:ext cx="57909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Franklin Gothic Book"/>
              </a:rPr>
              <a:t>Common Core Math Standards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rcRect l="7157" t="15451" r="8682" b="69940"/>
          <a:stretch/>
        </p:blipFill>
        <p:spPr>
          <a:xfrm>
            <a:off x="228600" y="1371600"/>
            <a:ext cx="839952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Rounded Rectangle 4"/>
          <p:cNvSpPr/>
          <p:nvPr/>
        </p:nvSpPr>
        <p:spPr>
          <a:xfrm>
            <a:off x="2203560" y="2971800"/>
            <a:ext cx="6330960" cy="3733920"/>
          </a:xfrm>
          <a:prstGeom prst="roundRect">
            <a:avLst>
              <a:gd name="adj" fmla="val 16667"/>
            </a:avLst>
          </a:prstGeom>
          <a:solidFill>
            <a:srgbClr val="c8d6f0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70c0"/>
                </a:solidFill>
                <a:uFillTx/>
                <a:latin typeface="Perpetua"/>
              </a:rPr>
              <a:t>Doma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Large group of related standar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Perpetua"/>
              </a:rPr>
              <a:t>Cluste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Perpetua"/>
              </a:rPr>
              <a:t>Groups of related standar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Perpetua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</a:rPr>
              <a:t>Define what students should understand and be able to do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-76320" y="-152280"/>
            <a:ext cx="5867640" cy="701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276" name="Rounded Rectangle 5"/>
          <p:cNvSpPr/>
          <p:nvPr/>
        </p:nvSpPr>
        <p:spPr>
          <a:xfrm>
            <a:off x="6095880" y="1219320"/>
            <a:ext cx="2971800" cy="19047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Developing Understand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student exhibits one OR more of the indicators;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tudent understanding is still evolv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Rounded Rectangle 6"/>
          <p:cNvSpPr/>
          <p:nvPr/>
        </p:nvSpPr>
        <p:spPr>
          <a:xfrm>
            <a:off x="5638680" y="4952880"/>
            <a:ext cx="2971800" cy="1905120"/>
          </a:xfrm>
          <a:prstGeom prst="roundRect">
            <a:avLst>
              <a:gd name="adj" fmla="val 16667"/>
            </a:avLst>
          </a:prstGeom>
          <a:solidFill>
            <a:srgbClr val="acc1e8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Complete Understand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student exhibits ALL of the indicators listed; student has demonstrated proficiency with the concept/skill on that particular tas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Formative Assessment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What is formative assessment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elect a few words or phrases to describe formative assessmen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-76320" y="-152280"/>
            <a:ext cx="5867640" cy="701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2"/>
          <a:srcRect l="0" t="7996" r="0" b="0"/>
          <a:stretch/>
        </p:blipFill>
        <p:spPr>
          <a:xfrm>
            <a:off x="2666880" y="2666880"/>
            <a:ext cx="6400800" cy="1752840"/>
          </a:xfrm>
          <a:prstGeom prst="rect">
            <a:avLst/>
          </a:prstGeom>
          <a:ln w="0">
            <a:noFill/>
          </a:ln>
        </p:spPr>
      </p:pic>
      <p:sp>
        <p:nvSpPr>
          <p:cNvPr id="282" name="Rounded Rectangle 8"/>
          <p:cNvSpPr/>
          <p:nvPr/>
        </p:nvSpPr>
        <p:spPr>
          <a:xfrm>
            <a:off x="4876920" y="4648320"/>
            <a:ext cx="4038480" cy="19047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essment Tasks may be altered 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hange the names, setting, or layout of the task.  *Use caution when changing numbers -- they were selected for a very particular reas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-76320" y="-152280"/>
            <a:ext cx="5715000" cy="7010280"/>
          </a:xfrm>
          <a:prstGeom prst="rect">
            <a:avLst/>
          </a:prstGeom>
          <a:ln w="0">
            <a:noFill/>
          </a:ln>
        </p:spPr>
      </p:pic>
      <p:pic>
        <p:nvPicPr>
          <p:cNvPr id="285" name="Content Placeholder 5" descr=""/>
          <p:cNvPicPr/>
          <p:nvPr/>
        </p:nvPicPr>
        <p:blipFill>
          <a:blip r:embed="rId2"/>
          <a:srcRect l="6302" t="61669" r="6302" b="20000"/>
          <a:stretch/>
        </p:blipFill>
        <p:spPr>
          <a:xfrm>
            <a:off x="1943280" y="2514600"/>
            <a:ext cx="720072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Rounded Rectangle 6"/>
          <p:cNvSpPr/>
          <p:nvPr/>
        </p:nvSpPr>
        <p:spPr>
          <a:xfrm>
            <a:off x="4724280" y="4343400"/>
            <a:ext cx="3505320" cy="22096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ractices that are likely to emerge as a result of completing the task are noted in BOL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Franklin Gothic Book"/>
              </a:rPr>
              <a:t>Ways to Organize Student Data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ake notes on the Task Direction shee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dividual student recording fo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ass summary shee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rtfolio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191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Franklin Gothic Book"/>
              </a:rPr>
              <a:t>Class and Student Summaries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238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lp teachers collect and organize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ganized by Doma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copy, edit, or revise as need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U:  Developing Understan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:  Complete Understan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hematical Practi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rcRect l="0" t="5685" r="4480" b="3411"/>
          <a:stretch/>
        </p:blipFill>
        <p:spPr>
          <a:xfrm>
            <a:off x="4038480" y="380880"/>
            <a:ext cx="48769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Summative Assessment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id-Year Assessment &amp; Summative Assessment (end of the year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rovided by DPI and distributed by the distric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esting window design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opies provid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75f6d"/>
              </a:solidFill>
              <a:latin typeface="Perpet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anklin Gothic Book"/>
              </a:rPr>
              <a:t>Questions?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K-2 Assessment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24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quired by the NC legislature and State Board of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sessments must include documented, on-going individualized assessments throughout the year and a summative evaluation at the end of the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Diagram 3" descr=""/>
          <p:cNvPicPr/>
          <p:nvPr/>
        </p:nvPicPr>
        <p:blipFill>
          <a:blip r:embed="rId1"/>
          <a:stretch/>
        </p:blipFill>
        <p:spPr>
          <a:xfrm>
            <a:off x="1743120" y="2584440"/>
            <a:ext cx="771192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Franklin Gothic Book"/>
              </a:rPr>
              <a:t>Formative Assessment</a:t>
            </a:r>
            <a:endParaRPr b="0" lang="en-US" sz="6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A process used by teachers and students during instruction that provides feedback to adjust ongoing teaching and learning to help students improve their achievement of intended instructional outcom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Formative Assessment Task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24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termine prior knowle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sess understanding throughout the instructional sequen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termine if a student is developing understanding or has achieved proficiency/mastery of a concep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sess understanding after instruction of a concept (or set of concepts) to determine if all students are proficient and are ready to move forwar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68c4"/>
                </a:solidFill>
                <a:latin typeface="Franklin Gothic Book"/>
              </a:rPr>
              <a:t>Formative Instructional and Assessment Tasks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240" y="17521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ligned with the Common Core State Standards for Mathematics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ent Standards &amp; Mathematical Practi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signed to reveal the extent to which a student knows and understands specific concep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asks focus on thinking and processes students u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opportunities for students to demonstrate their knowledge, skill, and understand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ve beyond only whether an answer is right or wro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ypes of Task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view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 asks questions, poses problems, or sets up learning activity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 listens to student responses and observes student’s strategies and thin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ritten Respons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 presents a problem to one or more studen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ents use pictures, numbers, and words to show their thinking and explain their reaso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th tasks provide students with opportunities to demonstrate what they know and how they can apply their understan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ask Administration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240" y="12193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asks may be administered to a whole class, small group of children, or an individual student --- depending on the purpose of the task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Some tasks assess multiple standard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eacher becomes an observer to gain informatio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frain from coaching, prompting, or targeted questio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pretations of students’ understanding must be accurat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Assessment tasks should be combined with other information (student products, classwork, anecdotal records) to gain an accurate picture of a student’s ability and understanding of mathematic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hen and NOW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46" name="Diagram 3" descr=""/>
          <p:cNvPicPr/>
          <p:nvPr/>
        </p:nvPicPr>
        <p:blipFill>
          <a:blip r:embed="rId1"/>
          <a:stretch/>
        </p:blipFill>
        <p:spPr>
          <a:xfrm>
            <a:off x="133200" y="1292400"/>
            <a:ext cx="8871120" cy="53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28:54Z</dcterms:created>
  <dc:creator>afloyd</dc:creator>
  <dc:description/>
  <dc:language>en-US</dc:language>
  <cp:lastModifiedBy>afloyd</cp:lastModifiedBy>
  <dcterms:modified xsi:type="dcterms:W3CDTF">2012-08-16T04:12:06Z</dcterms:modified>
  <cp:revision>31</cp:revision>
  <dc:subject/>
  <dc:title>K-2 Assessments</dc:title>
</cp:coreProperties>
</file>